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3CA-33DA-48B4-BCE5-E38A98B8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CD44-727A-4635-A899-63354556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00A-A6CC-49E6-B162-FD89AE0E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68E-F414-4760-AD48-7E504C9F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8E0-21EF-43EF-A258-5BA26703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3C13-0EDA-4D68-81D0-B0D9CFDE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7D0-45A1-4B76-8D2A-242ECB17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7DE-D9DA-4220-B36A-F4692FF2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BF37-7C91-4A79-82E5-5E2F1BC0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AAB-0A95-4099-8306-8A3ED768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D1E-E483-439F-96ED-4499ACE5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EC6-92A4-4CA5-834E-325987F3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F297-067E-4AE4-9AD1-A91B0B8E6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8251920" y="6075360"/>
          <a:ext cx="5871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1920" y="6075360"/>
                    <a:ext cx="5871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865160" y="1050840"/>
            <a:ext cx="5715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Tipo de Alumbrado en el Hogar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98680" y="6095880"/>
            <a:ext cx="232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ENAHO 2003-200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uchos peruanos viven con velas o keros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59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448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4040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341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292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15080" y="1538280"/>
            <a:ext cx="180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563920" y="1538280"/>
            <a:ext cx="4846680" cy="40384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63920" y="5459400"/>
            <a:ext cx="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63920" y="5297400"/>
            <a:ext cx="13788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63920" y="512604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63920" y="4954680"/>
            <a:ext cx="4111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63920" y="4792680"/>
            <a:ext cx="833400" cy="61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63920" y="4621320"/>
            <a:ext cx="20628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63920" y="4449600"/>
            <a:ext cx="5587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63920" y="4287960"/>
            <a:ext cx="34272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63920" y="4116240"/>
            <a:ext cx="62712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63920" y="3944880"/>
            <a:ext cx="83340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63920" y="3782880"/>
            <a:ext cx="13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63920" y="3611520"/>
            <a:ext cx="90144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63920" y="3440160"/>
            <a:ext cx="9698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63920" y="3278160"/>
            <a:ext cx="173340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63920" y="3106800"/>
            <a:ext cx="7635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63920" y="2935440"/>
            <a:ext cx="193824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63920" y="2773440"/>
            <a:ext cx="2496960" cy="63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3920" y="2602080"/>
            <a:ext cx="25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563920" y="2430360"/>
            <a:ext cx="15951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63920" y="2268360"/>
            <a:ext cx="31129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563920" y="2097000"/>
            <a:ext cx="2280960" cy="716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63920" y="1925640"/>
            <a:ext cx="166536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63920" y="1763640"/>
            <a:ext cx="1527120" cy="63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63920" y="1592280"/>
            <a:ext cx="3397320" cy="71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33760" y="545940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01800" y="5297400"/>
            <a:ext cx="35244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5040" y="5126040"/>
            <a:ext cx="2160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5040" y="495468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97320" y="4792680"/>
            <a:ext cx="341280" cy="61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770200" y="4621320"/>
            <a:ext cx="968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22640" y="4449600"/>
            <a:ext cx="6843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06640" y="4287960"/>
            <a:ext cx="9702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191040" y="4116240"/>
            <a:ext cx="6858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397320" y="3944880"/>
            <a:ext cx="76176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76840" y="3782880"/>
            <a:ext cx="282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65360" y="3611520"/>
            <a:ext cx="76392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33760" y="3440160"/>
            <a:ext cx="83196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97320" y="3278160"/>
            <a:ext cx="20484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27480" y="3106800"/>
            <a:ext cx="17334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502160" y="2935440"/>
            <a:ext cx="55872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060880" y="2773440"/>
            <a:ext cx="68400" cy="63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29280" y="2602080"/>
            <a:ext cx="1364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430360"/>
            <a:ext cx="165420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76840" y="2268360"/>
            <a:ext cx="1364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44880" y="2097000"/>
            <a:ext cx="1320840" cy="7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29280" y="1925640"/>
            <a:ext cx="255420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91040" y="1763640"/>
            <a:ext cx="2838240" cy="63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61240" y="1592280"/>
            <a:ext cx="968040" cy="71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5639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3259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9448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6404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3412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60292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6715080" y="557640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410600" y="557640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63920" y="1538280"/>
            <a:ext cx="1440" cy="4038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35120" y="557676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94440" y="56847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1546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390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342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2972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92488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60924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04400" y="56847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17600" y="54421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145960" y="527040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016360" y="50990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76560" y="493704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149560" y="476568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46160" y="459432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23080" y="443232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44280" y="42609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154960" y="408924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16400" y="392760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700280" y="375588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64240" y="358452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12960" y="342252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3480" y="3251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8960" y="307980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4760" y="29178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27000" y="27464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040" y="257508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50480" y="241308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110320" y="22417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63360" y="207000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76160" y="190800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040" y="173664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47160" y="156528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2971800"/>
            <a:ext cx="1143000" cy="685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745400" y="3106800"/>
            <a:ext cx="115920" cy="104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923960" y="3070080"/>
            <a:ext cx="71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743960" y="3435480"/>
            <a:ext cx="118800" cy="104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927200" y="339876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079760" y="15462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6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5360" y="238428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47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7400" y="17208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mparación entre fuentes de energía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4175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A Consulting – Mayo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9480" y="28944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Un tipo de energía mucho más costosa que la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31880" y="2570040"/>
            <a:ext cx="164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cos incandesc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2400" y="2570040"/>
            <a:ext cx="147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Lamparín keros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290720" y="257004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699560" y="3059280"/>
            <a:ext cx="120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sto Pro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591200" y="3251160"/>
            <a:ext cx="134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tv sol / hora / 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66040" y="37576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132080" y="375768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75920" y="375768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319520" y="375768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45240" y="3160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69016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071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74440" y="3160800"/>
            <a:ext cx="66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,734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19480" y="2438280"/>
            <a:ext cx="1440" cy="441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19480" y="2438280"/>
            <a:ext cx="12600" cy="44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0228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0228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789600" y="2452680"/>
            <a:ext cx="1296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070840" y="2452680"/>
            <a:ext cx="1440" cy="426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070840" y="2452680"/>
            <a:ext cx="1440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19320" y="3057480"/>
            <a:ext cx="1440" cy="397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19320" y="3057480"/>
            <a:ext cx="14040" cy="39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194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19480" y="3071880"/>
            <a:ext cx="126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0228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0228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9600" y="3071880"/>
            <a:ext cx="1296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70840" y="3071880"/>
            <a:ext cx="1440" cy="38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0840" y="3071880"/>
            <a:ext cx="14400" cy="38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2194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19480" y="3646440"/>
            <a:ext cx="126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0228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10228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9600" y="3646440"/>
            <a:ext cx="1296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0840" y="3646440"/>
            <a:ext cx="1440" cy="415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070840" y="3646440"/>
            <a:ext cx="1440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19320" y="3632040"/>
            <a:ext cx="1440" cy="4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9320" y="3632040"/>
            <a:ext cx="14040" cy="4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32080" y="2438280"/>
            <a:ext cx="4853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232080" y="2438280"/>
            <a:ext cx="4853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232080" y="2865600"/>
            <a:ext cx="4853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32080" y="2865600"/>
            <a:ext cx="48531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33360" y="305748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33360" y="305748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33360" y="344016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233360" y="344016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3360" y="3632040"/>
            <a:ext cx="6851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233360" y="3632040"/>
            <a:ext cx="685188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233360" y="4048200"/>
            <a:ext cx="6851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33360" y="4048200"/>
            <a:ext cx="685188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09680" y="4724280"/>
            <a:ext cx="5486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“</a:t>
            </a:r>
            <a:r>
              <a:rPr b="1" lang="es-PE" sz="1700" spc="-1" strike="noStrike">
                <a:solidFill>
                  <a:srgbClr val="009900"/>
                </a:solidFill>
                <a:latin typeface="Tahoma"/>
              </a:rPr>
              <a:t>La iluminación con velas es 210 veces más cara que con focos incandescentes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I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8080" y="2134800"/>
            <a:ext cx="73152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ahoma"/>
              </a:rPr>
              <a:t>Se necesitan más de US$ 5 500 millones para cubrir la brecha en infraestructura en el sector eléctri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2160" y="275400"/>
            <a:ext cx="731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¿Qué hace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143000" y="121932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66"/>
                </a:solidFill>
                <a:latin typeface="Tahoma"/>
              </a:rPr>
              <a:t>Evolución del Precio Medio Residencial y la Potencia Instal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104760"/>
            <a:ext cx="6781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una retribución adecuada puede garantizar la continuidad de las inversio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14840" y="5592600"/>
            <a:ext cx="5335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6200000">
            <a:off x="163080" y="3218760"/>
            <a:ext cx="14590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Tarifa Residen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ctv US$ / kW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42120" y="614376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Fuente: G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270760" y="6019920"/>
            <a:ext cx="227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Cifra calculada sobre año base: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1572400">
            <a:off x="8298000" y="2799000"/>
            <a:ext cx="198360" cy="15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Potencia</a:t>
            </a:r>
            <a:r>
              <a:rPr b="1" lang="es-ES_tradnl" sz="13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es-ES_tradnl" sz="1300" spc="-1" strike="noStrike">
                <a:solidFill>
                  <a:srgbClr val="ff3300"/>
                </a:solidFill>
                <a:latin typeface="Tahoma"/>
              </a:rPr>
              <a:t>Instala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801800" y="459252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801800" y="41385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01800" y="367668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801800" y="3220920"/>
            <a:ext cx="5757840" cy="32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01800" y="275760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01800" y="2303640"/>
            <a:ext cx="5757840" cy="144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01800" y="1838160"/>
            <a:ext cx="5757840" cy="1800"/>
          </a:xfrm>
          <a:prstGeom prst="line">
            <a:avLst/>
          </a:prstGeom>
          <a:ln w="0">
            <a:solidFill>
              <a:srgbClr val="8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00360" y="1838160"/>
            <a:ext cx="1440" cy="32194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801800" y="5057640"/>
            <a:ext cx="5757840" cy="18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2390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7050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03696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35124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36813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9956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432576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65444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97196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299200" y="5057280"/>
            <a:ext cx="288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61672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945040" y="5057280"/>
            <a:ext cx="180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62611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589800" y="5057280"/>
            <a:ext cx="14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905520" y="505728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19400" y="4687920"/>
            <a:ext cx="328680" cy="195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48080" y="4294080"/>
            <a:ext cx="330120" cy="588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878200" y="4233600"/>
            <a:ext cx="314280" cy="6012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192480" y="3436920"/>
            <a:ext cx="330120" cy="797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522600" y="3436920"/>
            <a:ext cx="292320" cy="33012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74760" y="4654440"/>
            <a:ext cx="85680" cy="637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37" y="19"/>
                </a:lnTo>
                <a:lnTo>
                  <a:pt x="19" y="37"/>
                </a:lnTo>
                <a:lnTo>
                  <a:pt x="0" y="19"/>
                </a:lnTo>
                <a:lnTo>
                  <a:pt x="19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05240" y="4851360"/>
            <a:ext cx="8712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836800" y="4262400"/>
            <a:ext cx="82440" cy="6192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151080" y="4200480"/>
            <a:ext cx="85680" cy="6192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37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81560" y="3405240"/>
            <a:ext cx="83880" cy="63360"/>
          </a:xfrm>
          <a:custGeom>
            <a:avLst/>
            <a:gdLst/>
            <a:ahLst/>
            <a:rect l="l" t="t" r="r" b="b"/>
            <a:pathLst>
              <a:path w="36" h="37">
                <a:moveTo>
                  <a:pt x="18" y="0"/>
                </a:moveTo>
                <a:lnTo>
                  <a:pt x="36" y="19"/>
                </a:lnTo>
                <a:lnTo>
                  <a:pt x="18" y="37"/>
                </a:lnTo>
                <a:lnTo>
                  <a:pt x="0" y="19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10480" y="45115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410480" y="405612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410480" y="359100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6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410480" y="3137040"/>
            <a:ext cx="25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15080" y="267336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0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15080" y="2220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2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15080" y="1755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14,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283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5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787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01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4315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7458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076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9056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72212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0364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668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6970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112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32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748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87600" y="5172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62880" y="1854360"/>
            <a:ext cx="3240" cy="321768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7545240" y="503208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787880" y="49417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87880" y="448164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6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84640" y="4032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8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784640" y="357192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9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724160" y="312264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1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24160" y="26622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724160" y="221292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724160" y="175248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ff3300"/>
                </a:solidFill>
                <a:latin typeface="Tahoma"/>
              </a:rPr>
              <a:t>15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7504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240336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7176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30430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3357720" y="5067360"/>
            <a:ext cx="288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686040" y="5067360"/>
            <a:ext cx="180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40114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43257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46544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97988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529416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56228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9371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6264360" y="5067360"/>
            <a:ext cx="14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659124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6905520" y="506736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3841920" y="3024360"/>
            <a:ext cx="328320" cy="75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170240" y="2480760"/>
            <a:ext cx="325440" cy="5432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4495680" y="2358720"/>
            <a:ext cx="314280" cy="1220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9960" y="2359080"/>
            <a:ext cx="3286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138640" y="2390760"/>
            <a:ext cx="327240" cy="372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465880" y="2763720"/>
            <a:ext cx="314280" cy="98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5780160" y="2739960"/>
            <a:ext cx="326880" cy="122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107040" y="2708280"/>
            <a:ext cx="314280" cy="31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21320" y="2708280"/>
            <a:ext cx="327240" cy="193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748560" y="2836440"/>
            <a:ext cx="326880" cy="651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01960" y="375444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0640" y="30002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456080" y="2455920"/>
            <a:ext cx="7956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770360" y="2335320"/>
            <a:ext cx="795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099040" y="2368440"/>
            <a:ext cx="79560" cy="4788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5920" y="2739960"/>
            <a:ext cx="78120" cy="493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7" y="0"/>
                </a:moveTo>
                <a:lnTo>
                  <a:pt x="34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40560" y="2836800"/>
            <a:ext cx="7776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5"/>
                </a:lnTo>
                <a:lnTo>
                  <a:pt x="17" y="29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67440" y="2716200"/>
            <a:ext cx="79200" cy="47520"/>
          </a:xfrm>
          <a:custGeom>
            <a:avLst/>
            <a:gdLst/>
            <a:ahLst/>
            <a:rect l="l" t="t" r="r" b="b"/>
            <a:pathLst>
              <a:path w="34" h="29">
                <a:moveTo>
                  <a:pt x="17" y="0"/>
                </a:moveTo>
                <a:lnTo>
                  <a:pt x="34" y="14"/>
                </a:lnTo>
                <a:lnTo>
                  <a:pt x="17" y="29"/>
                </a:lnTo>
                <a:lnTo>
                  <a:pt x="0" y="14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381720" y="2682720"/>
            <a:ext cx="7776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37280" y="2811600"/>
            <a:ext cx="76320" cy="507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19760" y="2867040"/>
            <a:ext cx="76320" cy="493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30560" y="3716280"/>
            <a:ext cx="3189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2549520" y="3695400"/>
            <a:ext cx="3333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82880" y="3695760"/>
            <a:ext cx="320760" cy="20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203640" y="3686040"/>
            <a:ext cx="31896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3522600" y="3587400"/>
            <a:ext cx="319320" cy="9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841920" y="3528720"/>
            <a:ext cx="31896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160880" y="3470040"/>
            <a:ext cx="334800" cy="58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4495680" y="3332160"/>
            <a:ext cx="319320" cy="13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815000" y="2959200"/>
            <a:ext cx="318960" cy="372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5133960" y="273384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452920" y="2576160"/>
            <a:ext cx="335160" cy="157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788080" y="2351160"/>
            <a:ext cx="31896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07040" y="2351160"/>
            <a:ext cx="319320" cy="1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6426360" y="2438280"/>
            <a:ext cx="318960" cy="2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6745320" y="2389320"/>
            <a:ext cx="309600" cy="4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448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50344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838600" y="366552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57560" y="368604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76520" y="3656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95840" y="35593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6240" y="3500280"/>
            <a:ext cx="90720" cy="590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49600" y="344016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768920" y="3303720"/>
            <a:ext cx="93600" cy="586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2960" bIns="12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089680" y="2930400"/>
            <a:ext cx="91800" cy="5904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408640" y="2705040"/>
            <a:ext cx="92160" cy="586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742000" y="2546280"/>
            <a:ext cx="93600" cy="60480"/>
          </a:xfrm>
          <a:custGeom>
            <a:avLst/>
            <a:gdLst/>
            <a:ahLst/>
            <a:rect l="l" t="t" r="r" b="b"/>
            <a:pathLst>
              <a:path w="40" h="36">
                <a:moveTo>
                  <a:pt x="20" y="0"/>
                </a:moveTo>
                <a:lnTo>
                  <a:pt x="40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62760" y="2320920"/>
            <a:ext cx="9180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81720" y="2428920"/>
            <a:ext cx="9216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19" y="0"/>
                </a:moveTo>
                <a:lnTo>
                  <a:pt x="39" y="18"/>
                </a:lnTo>
                <a:lnTo>
                  <a:pt x="19" y="36"/>
                </a:lnTo>
                <a:lnTo>
                  <a:pt x="0" y="18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4400" bIns="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0680" y="2411280"/>
            <a:ext cx="921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19" y="0"/>
                </a:moveTo>
                <a:lnTo>
                  <a:pt x="39" y="17"/>
                </a:lnTo>
                <a:lnTo>
                  <a:pt x="19" y="35"/>
                </a:lnTo>
                <a:lnTo>
                  <a:pt x="0" y="17"/>
                </a:lnTo>
                <a:lnTo>
                  <a:pt x="1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02000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829040" y="5532480"/>
            <a:ext cx="90720" cy="6012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11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321880" y="5516640"/>
            <a:ext cx="142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3300"/>
                </a:solidFill>
                <a:latin typeface="Tahoma"/>
              </a:rPr>
              <a:t>Potencia Insta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43120" y="5578560"/>
            <a:ext cx="53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335040" y="5502240"/>
            <a:ext cx="98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Precio Me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80"/>
                </a:solidFill>
                <a:latin typeface="Tahoma"/>
              </a:rPr>
              <a:t>Resid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857680" y="5518080"/>
            <a:ext cx="90360" cy="60480"/>
          </a:xfrm>
          <a:custGeom>
            <a:avLst/>
            <a:gdLst/>
            <a:ahLst/>
            <a:rect l="l" t="t" r="r" b="b"/>
            <a:pathLst>
              <a:path w="39" h="36">
                <a:moveTo>
                  <a:pt x="20" y="0"/>
                </a:moveTo>
                <a:lnTo>
                  <a:pt x="39" y="18"/>
                </a:lnTo>
                <a:lnTo>
                  <a:pt x="20" y="36"/>
                </a:lnTo>
                <a:lnTo>
                  <a:pt x="0" y="18"/>
                </a:lnTo>
                <a:lnTo>
                  <a:pt x="20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7229520" y="5052600"/>
            <a:ext cx="3240" cy="41400"/>
          </a:xfrm>
          <a:prstGeom prst="line">
            <a:avLst/>
          </a:prstGeom>
          <a:ln w="0">
            <a:solidFill>
              <a:srgbClr val="9933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11600" y="51674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80"/>
                </a:solidFill>
                <a:latin typeface="Tahoma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229520" y="5062680"/>
            <a:ext cx="324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086600" y="2751120"/>
            <a:ext cx="285840" cy="936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19880" y="2733840"/>
            <a:ext cx="76320" cy="48960"/>
          </a:xfrm>
          <a:custGeom>
            <a:avLst/>
            <a:gdLst/>
            <a:ahLst/>
            <a:rect l="l" t="t" r="r" b="b"/>
            <a:pathLst>
              <a:path w="33" h="30">
                <a:moveTo>
                  <a:pt x="17" y="0"/>
                </a:moveTo>
                <a:lnTo>
                  <a:pt x="33" y="15"/>
                </a:lnTo>
                <a:lnTo>
                  <a:pt x="17" y="30"/>
                </a:lnTo>
                <a:lnTo>
                  <a:pt x="0" y="15"/>
                </a:lnTo>
                <a:lnTo>
                  <a:pt x="17" y="0"/>
                </a:lnTo>
                <a:close/>
              </a:path>
            </a:pathLst>
          </a:custGeom>
          <a:solidFill>
            <a:srgbClr val="000080"/>
          </a:solidFill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240" bIns="3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68960" y="2390760"/>
            <a:ext cx="309600" cy="1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5840" y="2379600"/>
            <a:ext cx="90360" cy="57240"/>
          </a:xfrm>
          <a:custGeom>
            <a:avLst/>
            <a:gdLst/>
            <a:ahLst/>
            <a:rect l="l" t="t" r="r" b="b"/>
            <a:pathLst>
              <a:path w="39" h="35">
                <a:moveTo>
                  <a:pt x="20" y="0"/>
                </a:moveTo>
                <a:lnTo>
                  <a:pt x="39" y="17"/>
                </a:lnTo>
                <a:lnTo>
                  <a:pt x="20" y="35"/>
                </a:lnTo>
                <a:lnTo>
                  <a:pt x="0" y="17"/>
                </a:lnTo>
                <a:lnTo>
                  <a:pt x="20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1520" bIns="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990720" y="2402640"/>
            <a:ext cx="73152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omoviendo con la energía eléctr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 desarrollo de los pueb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1219320"/>
            <a:ext cx="769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Alumnos Aprobados en Primaria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 energía eléctrica, mejoramos la educación de los peru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76720" y="56386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Alumnos aprobados en prim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rot="16200000">
            <a:off x="876600" y="3388680"/>
            <a:ext cx="129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00480" y="1927080"/>
            <a:ext cx="5238720" cy="32497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400480" y="5176800"/>
            <a:ext cx="5238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146480" y="5176440"/>
            <a:ext cx="18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89284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639200" y="5176440"/>
            <a:ext cx="144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35360" y="374976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32360" y="34369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43200" y="337500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938920" y="210348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9" y="0"/>
                </a:moveTo>
                <a:lnTo>
                  <a:pt x="57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44680" y="3249720"/>
            <a:ext cx="9072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40200" y="46036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08600" y="3238560"/>
            <a:ext cx="9180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73280" y="3624120"/>
            <a:ext cx="9072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7"/>
                </a:lnTo>
                <a:lnTo>
                  <a:pt x="28" y="53"/>
                </a:lnTo>
                <a:lnTo>
                  <a:pt x="0" y="27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73320" y="44481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846760" y="2562120"/>
            <a:ext cx="92160" cy="8280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95880" y="2521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797360" y="296856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8" y="0"/>
                </a:moveTo>
                <a:lnTo>
                  <a:pt x="57" y="26"/>
                </a:lnTo>
                <a:lnTo>
                  <a:pt x="28" y="52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3320" y="246852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121440" y="1927080"/>
            <a:ext cx="90360" cy="8280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666960" y="3989520"/>
            <a:ext cx="90720" cy="82440"/>
          </a:xfrm>
          <a:custGeom>
            <a:avLst/>
            <a:gdLst/>
            <a:ahLst/>
            <a:rect l="l" t="t" r="r" b="b"/>
            <a:pathLst>
              <a:path w="57" h="52">
                <a:moveTo>
                  <a:pt x="29" y="0"/>
                </a:moveTo>
                <a:lnTo>
                  <a:pt x="57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081760" y="3416400"/>
            <a:ext cx="9180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5000" y="245736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094360" y="353052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57" y="26"/>
                </a:lnTo>
                <a:lnTo>
                  <a:pt x="28" y="53"/>
                </a:lnTo>
                <a:lnTo>
                  <a:pt x="0" y="26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956120" y="3448080"/>
            <a:ext cx="92160" cy="82440"/>
          </a:xfrm>
          <a:custGeom>
            <a:avLst/>
            <a:gdLst/>
            <a:ahLst/>
            <a:rect l="l" t="t" r="r" b="b"/>
            <a:pathLst>
              <a:path w="58" h="52">
                <a:moveTo>
                  <a:pt x="29" y="0"/>
                </a:moveTo>
                <a:lnTo>
                  <a:pt x="58" y="26"/>
                </a:lnTo>
                <a:lnTo>
                  <a:pt x="29" y="52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56120" y="39574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02240" y="390528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383160" y="199872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86520" y="2457360"/>
            <a:ext cx="92160" cy="8424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6"/>
                </a:lnTo>
                <a:lnTo>
                  <a:pt x="29" y="53"/>
                </a:lnTo>
                <a:lnTo>
                  <a:pt x="0" y="26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065480" y="3384720"/>
            <a:ext cx="92160" cy="83880"/>
          </a:xfrm>
          <a:custGeom>
            <a:avLst/>
            <a:gdLst/>
            <a:ahLst/>
            <a:rect l="l" t="t" r="r" b="b"/>
            <a:pathLst>
              <a:path w="58" h="53">
                <a:moveTo>
                  <a:pt x="29" y="0"/>
                </a:moveTo>
                <a:lnTo>
                  <a:pt x="58" y="27"/>
                </a:lnTo>
                <a:lnTo>
                  <a:pt x="29" y="53"/>
                </a:lnTo>
                <a:lnTo>
                  <a:pt x="0" y="27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119400" y="2270160"/>
            <a:ext cx="3309840" cy="1938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21040" y="50943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21040" y="4687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021040" y="42814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21040" y="38750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021040" y="3468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21040" y="30621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21040" y="2655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21040" y="22496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945440" y="18432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8312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0294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77280" y="52912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93760" y="5291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93880" y="46022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1840" y="4114800"/>
            <a:ext cx="54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1456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18200" y="320040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554880" y="1981080"/>
            <a:ext cx="488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7760" y="160020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0840" y="205740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80040" y="3687840"/>
            <a:ext cx="110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91336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442040" y="3505320"/>
            <a:ext cx="43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280" y="2894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generamos más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2949480" y="1066680"/>
            <a:ext cx="3527640" cy="4830840"/>
          </a:xfrm>
          <a:prstGeom prst="rect">
            <a:avLst/>
          </a:prstGeom>
          <a:ln w="0">
            <a:noFill/>
          </a:ln>
        </p:spPr>
      </p:pic>
      <p:sp>
        <p:nvSpPr>
          <p:cNvPr id="973" name=""/>
          <p:cNvSpPr/>
          <p:nvPr/>
        </p:nvSpPr>
        <p:spPr>
          <a:xfrm>
            <a:off x="2133720" y="5924520"/>
            <a:ext cx="5181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9900"/>
                </a:solidFill>
                <a:latin typeface="Tahoma"/>
              </a:rPr>
              <a:t>Energía eléctrica: Principal Materia Pr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38080" y="2743920"/>
            <a:ext cx="7315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¿Nos ponemos a trabajar todos ju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60360" y="30420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erspectivas de los Sectores Eléctrico e Hidrocarb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9480" y="3035160"/>
            <a:ext cx="67039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lectricidad y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5659920"/>
            <a:ext cx="45450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Ignacio Blan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Country Manager de Endesa en 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29040" y="5919120"/>
            <a:ext cx="3324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ahoma"/>
              </a:rPr>
              <a:t>Lima, Octubre 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Sudamericana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12920" y="459108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2920" y="3924360"/>
            <a:ext cx="515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12920" y="324792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2920" y="2581200"/>
            <a:ext cx="515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2920" y="1905120"/>
            <a:ext cx="5156280" cy="33620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5200" y="2104920"/>
            <a:ext cx="20808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1440" y="2104920"/>
            <a:ext cx="207720" cy="31622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552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09960" y="2238480"/>
            <a:ext cx="208080" cy="30286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4400" y="2305080"/>
            <a:ext cx="218880" cy="296208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0000" y="2514600"/>
            <a:ext cx="207720" cy="27525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4080" y="2581200"/>
            <a:ext cx="208080" cy="268596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78520" y="3048120"/>
            <a:ext cx="208080" cy="22190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92960" y="3514680"/>
            <a:ext cx="207720" cy="17524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07400" y="4257720"/>
            <a:ext cx="207720" cy="1009440"/>
          </a:xfrm>
          <a:prstGeom prst="rect">
            <a:avLst/>
          </a:prstGeom>
          <a:solidFill>
            <a:srgbClr val="6666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12920" y="1905120"/>
            <a:ext cx="1800" cy="336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68640" y="526716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68640" y="459108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68640" y="392436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8640" y="324792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8640" y="2581200"/>
            <a:ext cx="4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8640" y="190512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129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27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2418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5588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7032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79592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31036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82444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3888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854760" y="526716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69200" y="526716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036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44800" y="19051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5888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3320" y="20383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8920" y="210492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13000" y="231444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7440" y="2381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41880" y="28479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6320" y="33148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70400" y="405756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57960" y="519120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57960" y="45147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57960" y="38480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57960" y="31719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57960" y="25052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84520" y="1828800"/>
            <a:ext cx="36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4920" y="534348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59680" y="557856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8040" y="53434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72880" y="557856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5343480"/>
            <a:ext cx="78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98440" y="5578560"/>
            <a:ext cx="71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8040" y="5343480"/>
            <a:ext cx="61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88440" y="557856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1080" y="534348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8280" y="55627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89440"/>
            <a:ext cx="76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omos uno de los países con menor cobertura eléc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12636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PNUD y OLA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94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Y la cobertura eléctrica está asociada a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27400" y="1866960"/>
            <a:ext cx="5040360" cy="3247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27400" y="5114880"/>
            <a:ext cx="504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9592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5910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2210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531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4738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10560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735600" y="511488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367760" y="511488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96000" y="318132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95960" y="3228840"/>
            <a:ext cx="82440" cy="7632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73960" y="33051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03800" y="33717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64200" y="33908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17800" y="3857760"/>
            <a:ext cx="82440" cy="75960"/>
          </a:xfrm>
          <a:custGeom>
            <a:avLst/>
            <a:gdLst/>
            <a:ahLst/>
            <a:rect l="l" t="t" r="r" b="b"/>
            <a:pathLst>
              <a:path w="52" h="48">
                <a:moveTo>
                  <a:pt x="26" y="0"/>
                </a:moveTo>
                <a:lnTo>
                  <a:pt x="52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50160" y="278136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96000" y="271476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50160" y="2867040"/>
            <a:ext cx="81000" cy="7632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0"/>
                </a:moveTo>
                <a:lnTo>
                  <a:pt x="51" y="24"/>
                </a:lnTo>
                <a:lnTo>
                  <a:pt x="26" y="48"/>
                </a:lnTo>
                <a:lnTo>
                  <a:pt x="0" y="24"/>
                </a:lnTo>
                <a:lnTo>
                  <a:pt x="26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9400" y="3419640"/>
            <a:ext cx="81000" cy="75960"/>
          </a:xfrm>
          <a:custGeom>
            <a:avLst/>
            <a:gdLst/>
            <a:ahLst/>
            <a:rect l="l" t="t" r="r" b="b"/>
            <a:pathLst>
              <a:path w="51" h="48">
                <a:moveTo>
                  <a:pt x="25" y="0"/>
                </a:moveTo>
                <a:lnTo>
                  <a:pt x="51" y="24"/>
                </a:lnTo>
                <a:lnTo>
                  <a:pt x="25" y="48"/>
                </a:lnTo>
                <a:lnTo>
                  <a:pt x="0" y="24"/>
                </a:lnTo>
                <a:lnTo>
                  <a:pt x="25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959200" y="3009960"/>
            <a:ext cx="4032000" cy="88560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1320" y="503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21320" y="43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21320" y="3743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1320" y="3086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21320" y="24382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21320" y="17906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276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5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894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216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534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7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408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6240" y="5257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41040" y="525780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5960" y="55627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12585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ID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60680" y="4038480"/>
            <a:ext cx="762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oliv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32280" y="3048120"/>
            <a:ext cx="762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ff3300"/>
                </a:solidFill>
                <a:latin typeface="Tahoma"/>
              </a:rPr>
              <a:t>Per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3519360"/>
            <a:ext cx="1173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Paragu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27760" y="2620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hi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18280" y="236232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Argenti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443400"/>
            <a:ext cx="1096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Venezuel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306216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Bras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6880" y="4861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000" spc="-1" strike="noStrike">
                <a:solidFill>
                  <a:srgbClr val="000000"/>
                </a:solidFill>
                <a:latin typeface="Tahoma"/>
              </a:rPr>
              <a:t>=0.8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833560"/>
            <a:ext cx="111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300" spc="-1" strike="noStrike">
                <a:solidFill>
                  <a:srgbClr val="000000"/>
                </a:solidFill>
                <a:latin typeface="Tahoma"/>
              </a:rPr>
              <a:t>Colomb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2193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Evolución Cobertura Eléctrica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604044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28944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los últimos 4 años, se ha avanzado poco en cobertura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98520" y="44751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8520" y="356076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8520" y="2657520"/>
            <a:ext cx="5696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98520" y="1741320"/>
            <a:ext cx="5696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8520" y="1741320"/>
            <a:ext cx="5696280" cy="363888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47920" y="3149640"/>
            <a:ext cx="204840" cy="22305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2360" y="3022560"/>
            <a:ext cx="217440" cy="23576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7600" y="2976480"/>
            <a:ext cx="206640" cy="24037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02040" y="2908440"/>
            <a:ext cx="206280" cy="2471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7920" y="2828880"/>
            <a:ext cx="204840" cy="25513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32360" y="2760840"/>
            <a:ext cx="217440" cy="26193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57960" y="2703600"/>
            <a:ext cx="206280" cy="267660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72040" y="2657520"/>
            <a:ext cx="206640" cy="27226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8280" y="2646360"/>
            <a:ext cx="204480" cy="27338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2360" y="2611440"/>
            <a:ext cx="217440" cy="276876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27960" y="2600280"/>
            <a:ext cx="206280" cy="277992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8520" y="1741320"/>
            <a:ext cx="1800" cy="3638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52800" y="53802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2800" y="44751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52800" y="35607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52800" y="2657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52800" y="174132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19852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1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24000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75444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6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78296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31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824440" y="5379840"/>
            <a:ext cx="180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33888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5332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8036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894800" y="537984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59440" y="29192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1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2600" y="27939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68880" y="27478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02400" y="2679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8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16840" y="2590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0000" y="25146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2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3520" y="24732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3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0720" y="24289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4,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4240" y="24163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5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07400" y="238284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83680" y="237168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6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1520" y="5288040"/>
            <a:ext cx="18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6640" y="43848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6640" y="346860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6640" y="2565360"/>
            <a:ext cx="25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7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0320" y="165096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2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3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42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128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2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720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6164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7572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90160" y="55054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M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4080" y="289440"/>
            <a:ext cx="88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sultado: 7 millones de peruanos que no cuentan con electr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0528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783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3556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086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308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561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40320" y="1536840"/>
            <a:ext cx="180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1372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88200" y="1536840"/>
            <a:ext cx="1440" cy="39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30440" y="1536840"/>
            <a:ext cx="4757760" cy="3965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30440" y="5381640"/>
            <a:ext cx="167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30440" y="5214960"/>
            <a:ext cx="18097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30440" y="5049720"/>
            <a:ext cx="23036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30440" y="4884840"/>
            <a:ext cx="238752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0440" y="4718160"/>
            <a:ext cx="2616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30440" y="4552920"/>
            <a:ext cx="2862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30440" y="4387680"/>
            <a:ext cx="292896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30440" y="4221000"/>
            <a:ext cx="2967120" cy="78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30440" y="4056120"/>
            <a:ext cx="296712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30440" y="3889440"/>
            <a:ext cx="30132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30440" y="3724200"/>
            <a:ext cx="31464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30440" y="3559320"/>
            <a:ext cx="3165480" cy="75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30440" y="3403440"/>
            <a:ext cx="3184560" cy="669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30440" y="3238560"/>
            <a:ext cx="32418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30440" y="3073320"/>
            <a:ext cx="32702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30440" y="2906640"/>
            <a:ext cx="3535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30440" y="2741760"/>
            <a:ext cx="40179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30440" y="2575080"/>
            <a:ext cx="40845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30440" y="2409840"/>
            <a:ext cx="41133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30440" y="2244600"/>
            <a:ext cx="41324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0440" y="2077920"/>
            <a:ext cx="419904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30440" y="1913040"/>
            <a:ext cx="452916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30440" y="1747800"/>
            <a:ext cx="4643640" cy="763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1581120"/>
            <a:ext cx="4719600" cy="777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30440" y="5502240"/>
            <a:ext cx="475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3044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0528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783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9625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43556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086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8308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8561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40320" y="5501880"/>
            <a:ext cx="180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81372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288200" y="5501880"/>
            <a:ext cx="144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1360" y="550224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1360" y="53370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1360" y="51721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11360" y="50054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1360" y="4840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1360" y="4675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1360" y="4508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1360" y="43434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11360" y="41767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11360" y="40114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11360" y="384660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11360" y="36799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1360" y="351468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1360" y="33591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1360" y="31939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1360" y="30290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1360" y="286236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11360" y="269712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1360" y="25322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11360" y="23652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1360" y="22003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1360" y="20336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1360" y="1868400"/>
            <a:ext cx="19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1360" y="170352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1360" y="1536840"/>
            <a:ext cx="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81480" y="560232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9325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05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98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628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3732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036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52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6760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42440" y="56023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92080" y="560232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10800" y="53928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1040" y="5226120"/>
            <a:ext cx="50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66400" y="506088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14400" y="4896000"/>
            <a:ext cx="625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32760" y="472932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13920" y="456408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137320" y="4398840"/>
            <a:ext cx="302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22880" y="4232160"/>
            <a:ext cx="81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95120" y="4067280"/>
            <a:ext cx="41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13480" y="390060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89280" y="3735360"/>
            <a:ext cx="55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093040" y="3570120"/>
            <a:ext cx="32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65000" y="3403440"/>
            <a:ext cx="76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4120" y="3238560"/>
            <a:ext cx="334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53640" y="3073320"/>
            <a:ext cx="55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88840" y="290664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2741760"/>
            <a:ext cx="298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8280" y="257508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19000" y="2409840"/>
            <a:ext cx="73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6360" y="22446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59720" y="2077920"/>
            <a:ext cx="17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0960" y="1913040"/>
            <a:ext cx="52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98080" y="1747800"/>
            <a:ext cx="33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58920" y="1581120"/>
            <a:ext cx="281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10666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Cobertura Eléctrica por Departamentos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3048120"/>
            <a:ext cx="56386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416720" y="1828800"/>
            <a:ext cx="14223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3300"/>
                </a:solidFill>
                <a:latin typeface="Tahoma"/>
              </a:rPr>
              <a:t>Sólo 9 departamentos tienen una cobertura mayor al 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66880" y="604044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333399"/>
                </a:solidFill>
                <a:latin typeface="Tahoma"/>
              </a:rPr>
              <a:t>Fuente: INE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03840"/>
            <a:ext cx="9220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Tahoma"/>
              </a:rPr>
              <a:t>Sólo en el 2002, habían 6.5 millones de peruanos en extrema pobrez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111132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ahoma"/>
              </a:rPr>
              <a:t>Población en Extrema Pobreza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592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497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3084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1196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92720" y="1601640"/>
            <a:ext cx="180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8500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6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78120" y="1601640"/>
            <a:ext cx="4788000" cy="399924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78120" y="5487840"/>
            <a:ext cx="2620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78120" y="5322960"/>
            <a:ext cx="4078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78120" y="5148360"/>
            <a:ext cx="47160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78120" y="4983120"/>
            <a:ext cx="4809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78120" y="4818240"/>
            <a:ext cx="722160" cy="6156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78120" y="4653000"/>
            <a:ext cx="77472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778120" y="4487760"/>
            <a:ext cx="1120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778120" y="4322880"/>
            <a:ext cx="1476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778120" y="4148280"/>
            <a:ext cx="1528920" cy="712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78120" y="3983040"/>
            <a:ext cx="16336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78120" y="3817800"/>
            <a:ext cx="16444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78120" y="3652920"/>
            <a:ext cx="17064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78120" y="3487680"/>
            <a:ext cx="191628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78120" y="3324240"/>
            <a:ext cx="20318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78120" y="3147840"/>
            <a:ext cx="220032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78120" y="2982960"/>
            <a:ext cx="23781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778120" y="2817720"/>
            <a:ext cx="27860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78120" y="2654280"/>
            <a:ext cx="28605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78120" y="2489040"/>
            <a:ext cx="298620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78120" y="2324160"/>
            <a:ext cx="34052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778120" y="2147760"/>
            <a:ext cx="3519360" cy="7308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78120" y="1984320"/>
            <a:ext cx="351936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78120" y="181944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778120" y="1654200"/>
            <a:ext cx="4211640" cy="61920"/>
          </a:xfrm>
          <a:prstGeom prst="rect">
            <a:avLst/>
          </a:prstGeom>
          <a:solidFill>
            <a:srgbClr val="3399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78120" y="5600880"/>
            <a:ext cx="478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778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4592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1497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83084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51196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192720" y="5600880"/>
            <a:ext cx="180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8500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6120" y="5600880"/>
            <a:ext cx="1440" cy="41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78120" y="1601640"/>
            <a:ext cx="1440" cy="399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755800" y="5600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755800" y="54356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55800" y="527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55800" y="50958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55800" y="4930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755800" y="47656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55800" y="46022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55800" y="443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55800" y="427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55800" y="40957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755800" y="39322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55800" y="37670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55800" y="360216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755800" y="34369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55800" y="32716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55800" y="309708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55800" y="293220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55800" y="276696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55800" y="26020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55800" y="24368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755800" y="22716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55800" y="209700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55800" y="193212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55800" y="176688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55800" y="16016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710080" y="571500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642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56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3760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83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948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9176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72520" y="57150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400120" y="5467320"/>
            <a:ext cx="31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9920" y="5302080"/>
            <a:ext cx="37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ac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95880" y="5137200"/>
            <a:ext cx="19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98880" y="496260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umb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22120" y="4797360"/>
            <a:ext cx="67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oque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22560" y="4632480"/>
            <a:ext cx="57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83080" y="4467240"/>
            <a:ext cx="90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81440" y="43020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 Libert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868400" y="4137120"/>
            <a:ext cx="816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mbaye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36520" y="396252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mazo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32360" y="3797280"/>
            <a:ext cx="45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nc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95480" y="3632040"/>
            <a:ext cx="6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San Mart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361960" y="3467160"/>
            <a:ext cx="33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i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52600" y="3303720"/>
            <a:ext cx="331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Juní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24880" y="3138480"/>
            <a:ext cx="36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Pa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17680" y="2962440"/>
            <a:ext cx="37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Cus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4920" y="279720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or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75400" y="26337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yacu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09680" y="2468520"/>
            <a:ext cx="46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Ucay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61600" y="2303640"/>
            <a:ext cx="32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63520" y="2138400"/>
            <a:ext cx="61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13840" y="196380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52560" y="176688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Huancavel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130120" y="1600200"/>
            <a:ext cx="56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288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¿Notamos la rel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2590920"/>
            <a:ext cx="32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7 mill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sin 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2573280"/>
            <a:ext cx="4114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6.5 millones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743200"/>
            <a:ext cx="974880" cy="853920"/>
          </a:xfrm>
          <a:prstGeom prst="leftRightArrow">
            <a:avLst>
              <a:gd name="adj1" fmla="val 50000"/>
              <a:gd name="adj2" fmla="val 22727"/>
            </a:avLst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0200" y="118728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Extrema Pobreza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e INE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in cobertura eléctrica, se agudiza la extrema pob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55926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Extrema Pobre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83844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16320" y="1976400"/>
            <a:ext cx="5030640" cy="31305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1399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52720" y="51069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752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28804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0120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72480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7446960" y="51069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89240" y="3736800"/>
            <a:ext cx="9072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00400" y="34354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68880" y="3376440"/>
            <a:ext cx="88920" cy="7812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86000" y="2151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78400" y="32590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68880" y="4562640"/>
            <a:ext cx="88920" cy="77760"/>
          </a:xfrm>
          <a:custGeom>
            <a:avLst/>
            <a:gdLst/>
            <a:ahLst/>
            <a:rect l="l" t="t" r="r" b="b"/>
            <a:pathLst>
              <a:path w="56" h="49">
                <a:moveTo>
                  <a:pt x="28" y="0"/>
                </a:moveTo>
                <a:lnTo>
                  <a:pt x="56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70440" y="32400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02560" y="361944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02560" y="44067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68480" y="258912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08640" y="25495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5"/>
                </a:lnTo>
                <a:lnTo>
                  <a:pt x="28" y="49"/>
                </a:lnTo>
                <a:lnTo>
                  <a:pt x="0" y="25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919680" y="2978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76560" y="25020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54280" y="19764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99200" y="396072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46360" y="34052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29120" y="249228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8200" y="352260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8" y="0"/>
                </a:moveTo>
                <a:lnTo>
                  <a:pt x="57" y="24"/>
                </a:lnTo>
                <a:lnTo>
                  <a:pt x="28" y="49"/>
                </a:lnTo>
                <a:lnTo>
                  <a:pt x="0" y="24"/>
                </a:lnTo>
                <a:lnTo>
                  <a:pt x="28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83000" y="344484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54760" y="3930480"/>
            <a:ext cx="90360" cy="7812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68800" y="38829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800440" y="204480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879640" y="2492280"/>
            <a:ext cx="9072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4"/>
                </a:lnTo>
                <a:lnTo>
                  <a:pt x="29" y="49"/>
                </a:lnTo>
                <a:lnTo>
                  <a:pt x="0" y="24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02240" y="3386160"/>
            <a:ext cx="90360" cy="77760"/>
          </a:xfrm>
          <a:custGeom>
            <a:avLst/>
            <a:gdLst/>
            <a:ahLst/>
            <a:rect l="l" t="t" r="r" b="b"/>
            <a:pathLst>
              <a:path w="57" h="49">
                <a:moveTo>
                  <a:pt x="29" y="0"/>
                </a:moveTo>
                <a:lnTo>
                  <a:pt x="57" y="25"/>
                </a:lnTo>
                <a:lnTo>
                  <a:pt x="29" y="49"/>
                </a:lnTo>
                <a:lnTo>
                  <a:pt x="0" y="25"/>
                </a:lnTo>
                <a:lnTo>
                  <a:pt x="29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98920" y="2433600"/>
            <a:ext cx="4149720" cy="183852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41920" y="50292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41920" y="46404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041920" y="42512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41920" y="3852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41920" y="34639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41920" y="3075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041920" y="2685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041920" y="228744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7400" y="189864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41800" y="5214960"/>
            <a:ext cx="22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26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73716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4611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7392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964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092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332840" y="5214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93360" y="169236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56400" y="458784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504760" y="472428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94040" y="2971800"/>
            <a:ext cx="48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uz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78160" y="365760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90720" y="2743200"/>
            <a:ext cx="24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14600" y="4800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382680" y="6400800"/>
            <a:ext cx="770076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1187280"/>
            <a:ext cx="708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66"/>
                </a:solidFill>
                <a:latin typeface="Tahoma"/>
              </a:rPr>
              <a:t>Relación entre Cobertura Eléctrica y Desarrollo Humano 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60404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333399"/>
                </a:solidFill>
                <a:latin typeface="Tahoma"/>
              </a:rPr>
              <a:t>Fuente: MEM y PNU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23720" y="762120"/>
            <a:ext cx="8263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2160" y="289440"/>
            <a:ext cx="731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mpidiendo mejoras en el 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733920" y="55926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Desarrollo Hum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763560" y="3352320"/>
            <a:ext cx="137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ahoma"/>
              </a:rPr>
              <a:t>Cober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6360" y="1820880"/>
            <a:ext cx="5153040" cy="33130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376360" y="5133960"/>
            <a:ext cx="515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66552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95288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6242040" y="5133960"/>
            <a:ext cx="144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7529400" y="5133960"/>
            <a:ext cx="1800" cy="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39960" y="3662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65720" y="325764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5360" y="3279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91160" y="200484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44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02080" y="443880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3000" y="3083040"/>
            <a:ext cx="9972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52880" y="31640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301920" y="4392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03840" y="224964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40200" y="242244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29"/>
                </a:lnTo>
                <a:lnTo>
                  <a:pt x="32" y="59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2874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372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116760" y="1820880"/>
            <a:ext cx="9972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40200" y="3917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16520" y="332568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53000" y="23302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791240" y="3373560"/>
            <a:ext cx="9972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40160" y="3360600"/>
            <a:ext cx="100080" cy="93960"/>
          </a:xfrm>
          <a:custGeom>
            <a:avLst/>
            <a:gdLst/>
            <a:ahLst/>
            <a:rect l="l" t="t" r="r" b="b"/>
            <a:pathLst>
              <a:path w="63" h="59">
                <a:moveTo>
                  <a:pt x="32" y="0"/>
                </a:moveTo>
                <a:lnTo>
                  <a:pt x="63" y="30"/>
                </a:lnTo>
                <a:lnTo>
                  <a:pt x="32" y="59"/>
                </a:lnTo>
                <a:lnTo>
                  <a:pt x="0" y="30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265640" y="388296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1" y="0"/>
                </a:moveTo>
                <a:lnTo>
                  <a:pt x="63" y="29"/>
                </a:lnTo>
                <a:lnTo>
                  <a:pt x="31" y="58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40200" y="3836880"/>
            <a:ext cx="100080" cy="9216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42000" y="187812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29"/>
                </a:lnTo>
                <a:lnTo>
                  <a:pt x="31" y="59"/>
                </a:lnTo>
                <a:lnTo>
                  <a:pt x="0" y="29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016600" y="2352600"/>
            <a:ext cx="100080" cy="93600"/>
          </a:xfrm>
          <a:custGeom>
            <a:avLst/>
            <a:gdLst/>
            <a:ahLst/>
            <a:rect l="l" t="t" r="r" b="b"/>
            <a:pathLst>
              <a:path w="63" h="59">
                <a:moveTo>
                  <a:pt x="31" y="0"/>
                </a:moveTo>
                <a:lnTo>
                  <a:pt x="63" y="30"/>
                </a:lnTo>
                <a:lnTo>
                  <a:pt x="31" y="59"/>
                </a:lnTo>
                <a:lnTo>
                  <a:pt x="0" y="30"/>
                </a:lnTo>
                <a:lnTo>
                  <a:pt x="31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7640" y="3303720"/>
            <a:ext cx="100080" cy="91800"/>
          </a:xfrm>
          <a:custGeom>
            <a:avLst/>
            <a:gdLst/>
            <a:ahLst/>
            <a:rect l="l" t="t" r="r" b="b"/>
            <a:pathLst>
              <a:path w="63" h="58">
                <a:moveTo>
                  <a:pt x="32" y="0"/>
                </a:moveTo>
                <a:lnTo>
                  <a:pt x="63" y="29"/>
                </a:lnTo>
                <a:lnTo>
                  <a:pt x="32" y="58"/>
                </a:lnTo>
                <a:lnTo>
                  <a:pt x="0" y="29"/>
                </a:lnTo>
                <a:lnTo>
                  <a:pt x="32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01840" y="1924200"/>
            <a:ext cx="2963880" cy="2178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59480" y="50418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59480" y="46245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59480" y="4218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959480" y="380196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59480" y="33847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59480" y="2967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959480" y="256212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959480" y="21448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875600" y="1727280"/>
            <a:ext cx="39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52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6400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517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4052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28240" y="5261040"/>
            <a:ext cx="21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0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93720" y="1554120"/>
            <a:ext cx="40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Li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42760" y="4648320"/>
            <a:ext cx="874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ajamar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2000" y="434340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Huánu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48360" y="3276720"/>
            <a:ext cx="1174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dre de Di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51640" y="1965240"/>
            <a:ext cx="7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requip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713680" y="3429000"/>
            <a:ext cx="79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ahoma"/>
              </a:rPr>
              <a:t>Apuríma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01920" y="4038480"/>
            <a:ext cx="423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u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62940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  <a:ea typeface="Tahoma"/>
              </a:rPr>
              <a:t>²</a:t>
            </a:r>
            <a:r>
              <a:rPr b="1" lang="es-PE" sz="1200" spc="-1" strike="noStrike">
                <a:solidFill>
                  <a:srgbClr val="000000"/>
                </a:solidFill>
                <a:latin typeface="Tahoma"/>
              </a:rPr>
              <a:t>=0.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5:58:17Z</dcterms:created>
  <dc:creator>pe10301882</dc:creator>
  <dc:description/>
  <dc:language>en-US</dc:language>
  <cp:lastModifiedBy>pe10301882</cp:lastModifiedBy>
  <dcterms:modified xsi:type="dcterms:W3CDTF">2005-10-25T15:44:23Z</dcterms:modified>
  <cp:revision>1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0362096</vt:r8>
  </property>
  <property fmtid="{D5CDD505-2E9C-101B-9397-08002B2CF9AE}" pid="3" name="_AuthorEmail">
    <vt:lpwstr>deguchi@comexperu.org.pe</vt:lpwstr>
  </property>
  <property fmtid="{D5CDD505-2E9C-101B-9397-08002B2CF9AE}" pid="4" name="_AuthorEmailDisplayName">
    <vt:lpwstr>Daniel Eguchi</vt:lpwstr>
  </property>
  <property fmtid="{D5CDD505-2E9C-101B-9397-08002B2CF9AE}" pid="5" name="_EmailSubject">
    <vt:lpwstr>Presentacion sr. blanco</vt:lpwstr>
  </property>
</Properties>
</file>